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DB4-E3A2-4EE8-ABA1-FCAAF35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D67-42D8-4366-B0A7-DA9707A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8A2-4E64-4963-BF00-D23B395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66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66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616-5C19-4E78-9C8A-4CF70D8F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299-6815-4C26-81E2-E615C17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B46-87FA-4DE4-9A67-9B26DEA5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2EF-6549-4643-8963-CCB55AE3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2ED-E6FA-44CD-9616-4164F8E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B4B-57DF-459E-97BE-15B86D4F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53F-C7BA-4471-9638-41FE916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E17-1189-4B28-BDFF-E4F0712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8FB-C433-4457-9B32-B0D3822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D8F-58F4-4CD3-9D10-487C8CB25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63272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作   写演讲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922320"/>
            <a:ext cx="777744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语言的得体性和独特性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特定的听众或场合，演讲语言不仅要得体，还要注意表达技巧，既要体现自然质朴、简洁明了的本色，又要具有准确严密、条理规范、生动形象、平易亲切、圆润动听甚至幽默风趣等特点。这就要认真地锤炼语言。可以多用短句，并适当运用比喻、拟人、反问、设问等修辞手法，以增强表现力，激发听众的感情，增强演讲的感染力和说服力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5280" y="1701360"/>
            <a:ext cx="77770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写演讲稿和演讲的过程，就是不断积累知识、提高能力的过程。写好演讲稿，使自己成为高水平的演讲者是素质教育的要求，也是新时代高素质人才应具备的条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000" y="1125360"/>
            <a:ext cx="7777080" cy="30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竞职演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了解学生会和各个社团所设职位及其职责，明确自己感兴趣的职务，拟好演讲题目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竞选者需要向全校师生发表竞选演讲，所以开头要有称呼，结尾要有照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1280" y="981000"/>
            <a:ext cx="820872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针对自己感兴趣的职务，写出自己的特长，展现你竞选这个职务所具有的优势；拿出任职后比较实在的“行动方案”，说明能为大家做什么、怎么做，增强说服力。切忌空喊口号。同时可以穿插一些师生们都感兴趣或者想要了解的人或事，拉近和师生们的距离，引发他们的共鸣，以获得听众的认可和支持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最好能突出自己的演讲风格，运用一定的表达技巧，以感染听众。注意语言应通俗易懂，可以多用短句，并适当使用修辞手法，以增强表现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55280" y="1701720"/>
            <a:ext cx="77770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感恩演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界五彩缤纷的美，给人身心的享受，值得我们感恩；朋友推心置腹的提醒，让自己精神上永远清醒，需要我们感恩；父母无微不至的呵护，在给自己物质上坚实支撑的同时，还给我们精神上无尽的抚慰，我们必须从内心深处去感恩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55280" y="1557360"/>
            <a:ext cx="77770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恩”这个话题的写作维度有两个，其一可以是具体某个人，如父母、老师、朋友甚至不相识的陌生人，只要有值得感恩的一面；其二也可以是抽象的物，如美丽的大自然，和平安定的社会，人生旅途中所遭遇的挫折、失败甚至磨难等。如果你是个关注现实、善于思考的人，你就会发现，值得你感恩的对象有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9080" y="764640"/>
            <a:ext cx="8604000" cy="58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选准感恩对象、角度。我们应选择自己最熟悉、最有话可写的对象、角度着笔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围绕感恩对象、角度，列出具体事例，注意事例的代表性、条理性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对所选取的事例进行评价、议论，通过正反对比阐述自己的观点和感受。也可从正面切入，采取分论点式结构，从不同角度论述“知恩图报是做人的起码良知”。当然也可从反面现象入手，列举相关的“不知感恩”的反面事例，再剖析其产生的原因和危害，进而规劝、诱导要懂得感恩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280" y="1701360"/>
            <a:ext cx="777708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叙述典型事例的同时，还应注意运用多种修辞手法，增强语言的感染力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深入浅出地把感恩的道理用通俗易懂的语言传达给听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55280" y="1701720"/>
            <a:ext cx="77770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恩的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阴荏苒，岁月从指间悄悄流逝，面对飞逝的青春，成长留下最清晰的印记。岁月的河流中，我慢慢欣赏，慢慢地懂得感恩，用感恩的心生活，带着感恩的心成长。</a:t>
            </a:r>
            <a:r>
              <a:rPr b="0" lang="zh-CN" sz="2800" spc="-1" strike="noStrike" baseline="30000">
                <a:solidFill>
                  <a:srgbClr val="ff0066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【“用感恩的心生活，带着感恩的心成长”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语经典，观点鲜明。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7525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7640" y="609480"/>
            <a:ext cx="8713800" cy="62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人说：滴水之恩，须当涌泉相报。感恩是我们中华民族的优良传统，也是做人最基本的品德。带着一颗感恩的心去对待身边的每一个人，就会发现人生中需要感恩的人有很多。感谢父母，他们给了我生命；感谢朋友，他们给了我关怀和友谊；感谢老师，他们给了我知识和技能；感谢曾经伤害过我的人，因为他们让我变得更加坚强。</a:t>
            </a:r>
            <a:r>
              <a:rPr b="0" lang="zh-CN" sz="2800" spc="-1" strike="noStrike" baseline="30000">
                <a:solidFill>
                  <a:srgbClr val="ff0066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【讲道理，论证了感恩是优良传统、基本品德。】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深知：感恩并非遥不可及，做起来也很简单。当他人向你投来温暖的目光时，你回赠一个亲切的眼神；当得到他人帮助时，你投去一个甜甜的微笑，轻轻地说声：谢谢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1701360"/>
            <a:ext cx="777708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明确演讲稿内容、语言、结构的特点。拟写中心突出、条理清晰的演讲稿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学会选择恰当的话题演讲，要求观点鲜明，逻辑严密，事例典型，具有号召力和鼓动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克服畏难、羞涩心理，培养与人沟通、合作的能力，有理有节地说服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7144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8000" y="680760"/>
            <a:ext cx="896472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告诉我们要时时怀有感恩的心，只有怀有一颗感恩的心，人才会变得更加善良。听说过一个人向树道歉的故事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说过所有正在行驶的汽车为一只狗让路的故事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真实的故事，都是人们尊重与感恩生命的体现。同学们，当我们每天享受着清洁的校园环境时，我们要感谢那些清洁工人；当我们考试进步时，我们要感谢讲台上挥洒汗水的老师；当我们生病痊愈时，我们要感谢悉心照顾我们的父母……懂得感恩，就会以平等的眼光看待每一个生命，就会更加尊重自己，让自己的本性更加善良。</a:t>
            </a:r>
            <a:r>
              <a:rPr b="0" lang="zh-CN" sz="2800" spc="-1" strike="noStrike" baseline="30000">
                <a:solidFill>
                  <a:srgbClr val="ff0066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【摆事实，论证了常怀感恩之心的人才会变得更加善良的道理。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980640"/>
            <a:ext cx="91440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带着感恩的心去观望，所有的阴霾都将散尽。上周六去盲人学校做义工的经历，令我刻骨铭心。忘不了那天真的面孔，忘不了那憧憬的声音，更忘不了那美丽而无神的眼睛。当一个可爱的小盲女拉着我的手，满怀向往地问：姐姐，天空真的是蓝色的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心被那天真，被那憧憬重重地敲击，双眼盈满了泪水。那一刻，我从心里感激父母给了我一个健全的身躯，让我看到了多彩的世界。</a:t>
            </a:r>
            <a:r>
              <a:rPr b="0" lang="zh-CN" sz="2800" spc="-1" strike="noStrike" baseline="30000">
                <a:solidFill>
                  <a:srgbClr val="ff0066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讲故事。巧联想，论证了用感恩的心去生活的重要性。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谢生活，在时光还没有消逝得无影无踪的时候，教会了我用感恩的心去生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为有爱，所以感动；因为感动而懂得了感恩。亲爱的同学们，你在生活中曾有过这样的感动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280" y="1701720"/>
            <a:ext cx="77770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为新世纪的中学生，让我们携起手，共行动，树立正确的世界观、人生观、价值观，常怀感恩的心，为祖国的美好明天，加倍努力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衷心祝愿祖国母亲在“感恩”之风吹拂下的明天更美好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2800" spc="-1" strike="noStrike" baseline="30000">
                <a:solidFill>
                  <a:srgbClr val="ff0066"/>
                </a:solidFill>
                <a:latin typeface="楷体_GB2312"/>
                <a:ea typeface="楷体_GB2312"/>
              </a:rPr>
              <a:t>⑤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【联系实际，展望未来。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1701720"/>
            <a:ext cx="77770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带着感恩的心去观望，所有的阴霾都将散尽”。成长道路上，走走停停，我们会遇见很多事情，也会遇见很多人。不管面对谁，我们都要心怀感恩。感谢那些帮助过自己的人，也要感谢那些给自己带来伤害的人，是他们让我们得到成长，得到进步。演讲思路明晰、感情充沛，很有感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724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5280" y="1701720"/>
            <a:ext cx="77770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以《只是因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》为题，写一篇文章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“那本书”“那条路”“那个人”“我是中国人”四个短语中任选一个，填在横线上，将题目补充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体自选，不少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得出现真实的校名、人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7147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280" y="1701720"/>
            <a:ext cx="77770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篇考场作文的标题如果补充为“只是因为我是中国人”，这样不但标题大气，而且可以采用演讲稿的形式来发挥考场作文，既容易出彩又容易取得高分，但要想达到内容与形式的完美结合必须注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观点鲜明，气势磅礴。如文章开篇可由梁启超的名言“少年智则中国智，少年强则中国强”引出中心论点：“我们是中国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6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836640"/>
            <a:ext cx="892656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我们每个同学都要胸怀祖国，为祖国的繁荣昌盛而努力学习。”这样就开门见山，旗帜鲜明，掷地有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旁征博引，论证充分。文章摆事实、讲道理，或引用名言、诗句，或列举事例，或反面阐述，围绕论点进行充分论证，有力地证明论点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激扬文字，鼓舞人。文章的语言要慷慨激昂，如滔滔江水，一泻千里。排比句式的运用，富有气势；古诗名言的引用，具有说服力；反问句不容置疑、设问句设置悬念……这样写，才能显示小作者驾驭语言文字的高超技巧，才能打动评阅作文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782640"/>
            <a:ext cx="914400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学校近期将举行学生会和各个社团的改选，竞选者需要向全校师生发表竞选演讲。选择你感兴趣的职务，自拟题目，写一篇竞选的演讲稿。不少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提示】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应根据自己的特长、兴趣选择相应的职务，作为竞选目标。比如有文体特长的同学，可以竞选学生会文体部门的职务；喜欢文学的同学，可以竞选文学社的相关职务；等等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让听众明确地知道你的竞选目标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注意展现你竞选这个职务所具有的优势，以获得听众的认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762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000" y="162864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感恩，是一种生活态度，也是一种美好品德。试围绕“感恩”这一主题，以班上同学为听众对象，自拟题目，写一篇演讲稿。不少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提示】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演讲稿不仅要观点鲜明，还要注意针对听众对象，贴近他们的生活。例如，可以提出“感恩父母”“感恩，从身边小事做起”等观点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280" y="1701360"/>
            <a:ext cx="777708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以引用一些关于感恩的典型事例，增强说服力；还应注意运用多种修辞手法，增强语言的感染力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写完演讲稿，可以在班上进行演讲，体会演讲稿的实际表达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280" y="170172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写好一篇演讲稿，可以从以下几方面入手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观点的鲜明性和针对性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是就某个问题发表自己的看法，并取得听众的认同，这就决定了它必须具有鲜明的针对性。其一是观点要鲜明，其二是要针对特定的听众、特定的场合。这在课本上已有很好的提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6953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280" y="1701360"/>
            <a:ext cx="7777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内容的凝练性和哲理性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稿要有充实的内容，否则，思想就会失去依托。要围绕自己的观点或演讲主题选择恰当的事实材料，使演讲稿有“骨”也有“肉”，更具说服力。但演讲稿更注重事件或事例的提炼、概括，并须将它转化为形象性或哲理性的语言。这就需要演讲者具有深刻的认识和独到的见解，能透过现象揭示内在的精神实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5280" y="692280"/>
            <a:ext cx="7777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材料的真实性和吸引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对事实材料进行筛选，选取那些真实可靠的，能突出、烘托主题的，能使人感动和感兴趣的具有强烈吸引力的生动材料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构的层次性和逻辑性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是一种口头语言活动，因此在准备演讲稿时要有意识建立鲜明的逻辑结构，能使听众感觉到清晰的层次。可采用排比句段、过渡句等鲜明的语言标志来实现，使听众感到层次清楚，印象深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280" y="1701720"/>
            <a:ext cx="777708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情感的渲染性和鼓动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的演讲善于创设一种和谐的演讲气氛，沟通与听众的情感。除了在内容上引起听众的关注和兴趣之外，还要贯注演讲者的真情实感，以此创造出一种特有的气势，鼓动听众接受演讲者的观点和主张，或起到催人泪下、发人深思、感人奋进的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03:14:41Z</dcterms:created>
  <dc:creator>微软用户</dc:creator>
  <dc:description/>
  <dc:language>en-US</dc:language>
  <cp:lastModifiedBy>Windows 用户</cp:lastModifiedBy>
  <dcterms:modified xsi:type="dcterms:W3CDTF">2018-02-08T06:37:29Z</dcterms:modified>
  <cp:revision>471</cp:revision>
  <dc:subject/>
  <dc:title>幻灯片 1</dc:title>
</cp:coreProperties>
</file>